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</p:sld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F15-333E-4981-B801-D6D40F93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C7E-2082-4027-8D31-2DCEF92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A6AF1-FC90-4378-B262-4D8A13AB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FA6B8-AD61-4A17-9AAC-E6033177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4D3DD-8E4D-4F14-9C88-C920E1BA1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63910-B3FD-4F7D-83F9-CE94DA69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9638F-D7D5-411E-98CC-3BED8737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CD662-E46A-4D7A-A938-CBE6706F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10264-30B7-4D5E-8C3D-E5E11721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B7A02-8874-4B02-9188-32C3E5C06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4F94F-6888-44D5-8FD3-60069E14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9475C-7F89-421A-AFFF-EA9B9B02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B93A-05FA-4CD7-AB44-B1FC0EA7C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61EF2-4D12-467C-ADAA-8A1F1C4E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53B54-9A1C-4CF0-AA56-F72D39DC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4077B-213E-40D6-BFBC-6E896756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C61E5-8A56-4293-8B19-1F288DA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BD47E-431E-4592-AFFA-18BB191C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33518-286F-4D2A-8B67-C6F3BCB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CEDF9-A0DA-452B-A5FE-84FF1EA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C4086-C785-4DBA-9D49-9905162E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1965FE-73E3-4FC2-B517-7638D230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2C6C0-FA18-40B9-8281-696B1B00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E819-760D-41E6-AF4B-80DAF251E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813D3-6993-4111-8610-39ADAE90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CEFED-218D-40DE-827A-2E1F5294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019B0-71E3-435E-9A67-4FE77CE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0F944-0A86-4B1F-96F1-64FABFD9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F277D-8530-425C-811A-19DFA73D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34DA3-1A4B-4C0D-8B6F-E3B20625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3D379-4FA7-434C-BA9F-6CEFFF4B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69C57-83CF-4F55-9AD5-5F1A8BCA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C4186-EC25-43C6-8107-0CA0362E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20927-FFE2-4DF7-B589-674397F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9DB7-D328-4F04-9455-85AC83FA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ECA39-AF03-485B-B31B-96C93EE2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F4355-625F-4D91-9BC8-1BAA4BB7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E4298-CAA6-49BC-87AB-9B28D8E38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9C3E9-94E9-4806-A0F1-FA276D45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DC6E2-1F12-49FA-9687-50BD735F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CC6D07-894C-469A-907B-5E30B125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A9B15B-5C45-41FA-984E-51EE78A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D889-E718-418B-851A-6B8708EF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FAFE5-7ABB-4E1C-A7DD-6954FF6C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C69FB-BE24-409B-905B-96182694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1B29-0F0E-4BB9-AC26-D971318E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2AB538-EB47-4099-B5D1-B0E54CDC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B1781-8806-4AC8-89B9-2656FB2F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04595-943B-4C97-A190-41A94451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8A574-DFED-4679-BAE0-82C891FB6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54C3F-70A4-4910-BB43-B286F2DB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9A82E9-7875-4E61-9BF0-0138E6BF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54F6BD-0E92-4438-A483-C8CBED6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DCB0B-DBE5-448E-A0FC-02DD939D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77B545-C268-45E1-8683-B6FDD31C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DB2B4A-1178-4CF2-8138-881599B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2DBA-0EE7-49CA-BEDA-E0A8E623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E14E6-2B67-43AF-8004-816EA820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8FA0D-0613-4538-8FFB-64C7D7B7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61B06-8F80-4B46-8CBD-102F362B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951957-EC9C-4F37-8314-5110FA12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6CB589-4345-4CE8-ACB2-ADDF669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E0B3AF-8DBB-4163-83EB-4E15EF5A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0B1C50-F5C3-48D4-83BE-17BEB514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8EAF09-8519-4B42-8769-5A0B2BA6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4C0A99-464D-4F9E-AF2E-E0F371FA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7BB286-B02A-4470-9F87-5B6F5C92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BC0C-62D1-455E-B8F1-8E2E346B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A8DC2-EA54-44DD-AB66-B38A5095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20C43-C788-4F03-A4BD-6B0FA006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9A7F6-F3E9-48AD-BE7A-D1B13101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1E93BE-35B7-437F-93BC-05BEF8AE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20271C-0807-43B3-AB87-0D151DBB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B7DA55-5FED-4A17-A49A-69918FAE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E76AD3-AACD-47C1-BA84-D145A296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9AA5A4-F7A7-4995-A65D-E4AD331EA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7782A-B40B-461F-BB99-30F6D3D9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9433F-C9B6-456F-9B6F-B24D019E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E907-4361-42EB-89A0-94CCA790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02CC59-C572-4113-99D1-D4CDB670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E26CA3-8509-4A83-B1E7-039A646F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18199-18FC-4C86-BE97-4A46B47E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938405-F1CD-4938-9D8B-21974027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CB7AA5-6173-481A-A73A-83F1AC80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CE4A9E-ADAA-4E8A-9473-4EA21A22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3B284B-348F-4BDE-BDD0-CFB0CB4B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5FD56-4B28-4E8A-BB53-F31BD55F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852E3-DED9-4D99-BABA-63A17AF23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6A0177-01D6-4377-B3DA-24D803BF3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DBCE-32E1-4690-AAE1-C1AB4B2C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921C98-EF9A-45FF-A025-C320BF63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F57D8-D26B-4205-9725-134067C4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EB807E-BF88-44BD-BA96-8909E9ED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F395D-D4CD-4451-96E3-0C29D2C4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A54A08-F442-47D1-BC55-4560F8E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DCFBA-999E-4DC0-98EA-287C452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6BD8D-3DB8-4D56-BA98-09A18F91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6E1F73-68B1-419B-877F-45FE35C1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2DA50D-9B21-44E2-B0E9-68660CDF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FA0CE-9176-42F1-89FE-CCF16AF6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BA59-2772-46E8-B6C5-8BC3A6E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19D01F-93A0-4EB8-86DC-E3492317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038D5-6817-4961-B373-FC72E57E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F75CB-3316-462F-8BB3-3B3AD09E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B56F0-8437-4664-8906-6EA45AA9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74FAE-7292-4839-A46A-CEE53803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B529C-640A-4C0B-B62C-6FCE21CA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9F9CCB-F4B5-42A9-BEB4-AC6FACC2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008DDF-FB05-4AB9-846E-F383BEF0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2C2E7-A445-42ED-89CA-70ED9272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596F4-104A-428A-93DB-6014EF69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3EB8-075D-4CB7-B486-F5C8B812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746D-6D57-4AC3-8D08-9743B22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26D554-CB1B-4C2B-AF25-30ED07CC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FED74A-5470-4F46-9E4B-2BB57C0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6D9B1-BECB-47EE-8953-AFDC1F4A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C4D7B-B9EC-41F3-8A27-5D7E2292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37679-00AF-402A-BC95-B8812300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891472-EE2A-42E2-86BB-9F6755A6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0F2393-0C89-46BE-A2F5-8FAF21CAA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0FF32-3164-4969-9882-D9C8A9A9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F0504-CC0E-43DF-B9F1-1D799E38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95C81-4DFB-4ACA-8C9A-3F1F5071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E89A-EC6B-4F1B-AFF6-42637BA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CACEB3-459C-4E47-A2AB-9E361A8E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45B7CD-E28E-4E2D-BCE3-3819A222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6EBFF-6676-4A3C-8C3C-564BFCD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1D4F1-554C-4386-A337-8B15085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55CA6-F94D-4825-A313-72CB338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CEC1F-9F7F-4247-9966-6BC49E61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3C67B-7140-4ABF-8A4C-16553529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D3085E-850C-4C6E-9CD5-B6F15F1E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4F90B4-F123-48DD-AA5A-F3749E3F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595E78-616A-4B14-B4D3-0EFE2A9E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90FC-0E34-490F-AF6B-DE6A44A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3F41EE-73C8-4149-BB4C-D71F18D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48F25-6DBB-4EA3-A835-93286651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F12CC-8B5F-4824-BE9C-125D4B4A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FBF6BE-D3F4-42C1-9478-96BAF942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725BFC-AB5C-42D3-9EB0-EB9D2769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91608-283D-4B84-8005-723DD91C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43C09C-6C1B-47C3-BC4F-E8E5D82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BD6509-DAC5-4F67-8772-8801F9A3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189D2-98F0-4180-B1F3-EBA23AB72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462F0A-C4DE-49A0-B296-B979066C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7761-7361-41FE-B0A2-8F3C10BF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221E26-2591-4214-99DE-01F21F6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CD250-CFFE-4167-ACA6-A043A836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8C0CC-F6BD-44CB-9344-32A38C86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A942C-C407-461D-B317-2DE50094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CEB29D-8381-41D7-98BA-88C5F9FB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6B0840-6806-4DBD-B1E5-85C36CAB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8EEB3D-7429-4215-AFDA-D4A04752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9E72E6-C2AA-4160-97C9-118CCE74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DA7F39-DF63-414D-959E-DF5E68ED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7E244D-1853-4FA4-B43E-3854BAF0C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9FF7-BADD-4B4F-AEA6-5FE57CBF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2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69644-610B-4022-AFAA-F73E592AD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282B3D-1FFA-4C27-8DF7-53830A5C0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2973A-1FA0-4EF3-BE5C-67B03C89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FD6F3C-901E-47D7-AFC3-9E795952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1E102A-BECF-4029-849D-0595DF26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45AE9-3DE5-4602-BC1C-698FBAEA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75B5A1-9A98-4B08-9F00-B03289B4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2C927-3DB0-4E3F-A884-6C1915C0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E302DF-030C-429F-A344-0530CFFB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22EC6-2DE5-4425-8F6E-6D2309D9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5F20-D41F-4AB7-9406-FF9C73D0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5CEF1-15AE-47CB-AD5A-EA63A369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F54A49-6B18-4819-AAA3-38A9A734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54FCFA-951D-428C-8AB0-EA09C3DB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21378-AF7D-4AEA-AE0C-EE05C5A39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4ED3D2-29D3-4DA9-946F-BFA493ED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37941B-456D-4C3C-98AB-9461E479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983FBE-8D20-4AAD-A509-A93858F5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B0F92A-EB10-468E-B603-F571408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1519A7-34F2-418A-BDB0-8810E7F0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E9BE70-9B08-4DE2-A288-85530680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0F8BF-6360-4B43-91F9-10DBE006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28CD8-A290-4D1A-94EE-9750B34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083CDB-DE55-46B6-A7BE-73D56D2F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8393FE-DCDA-4BCB-B16D-1E8D3336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81A9F8-9415-45AD-934D-E18D0E39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A9F623-6D22-4336-949F-A81941CE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722DC-2009-470F-9E0F-C6129F07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757DEF-DEB8-4CC1-839E-AFD94FF5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D3E0D4-5ED9-4D13-8CC5-5F078C7D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6F6D8-822B-46BA-ABAF-8D77D51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CF6472-FD8D-4394-BE8C-DFDE320A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974F-6721-4B88-9F76-17D82F60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CB3C9A-6C04-4E1F-B5E5-577F41B5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961260-D72D-4F33-93CA-FBEECF5D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928FCD-89EA-47EA-A1F2-1201131F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B0119-B4D9-4F7E-8031-FAA119A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C74054-81F7-49DD-A527-79687F20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F3F2E3-9688-4908-9CD2-285016D2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21EFB-72E8-4C1C-B932-2948B79A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37DA3E-8541-4017-9A5E-3CBDBA05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4DC98E-7142-4116-8DFC-5BC46921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FBEB39-8BD5-4DB8-B4E4-2CC7996A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87B6-86B5-47D7-821F-7D14BF74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2AB29B8-7E8A-4DEF-8351-A7D2FB4F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F8603D-D451-4CB7-A2D0-F32A919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FB0D13-0177-4A1B-8D18-ABCF3275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364299-B1F8-4C72-85E8-269EA742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C173E0-CC15-46D4-ABD4-552D5A21E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02D2DD-2410-4F43-8234-5DBBE1FC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CD9881-4C71-43A0-892A-EB1A88D8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79154C-1FAD-4833-9F45-76CE6034F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6FC8A-7989-4F49-9F42-D4F751BD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B768B7-6F9F-43F1-8B1D-7A068F62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0B84-7D67-49AE-A9B6-88C6E345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CDF0FE-0A5A-4E1A-BF52-9EC82D32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FD5AD3-605E-4E87-8CF6-B700C90A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9EB737-AB16-46D7-A6D5-9FAE4FDD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83CB92-6A6D-42AC-8935-F57C7139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AF254F-0C20-42AA-A043-4BDECAC22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D0790F-74BB-405B-B1E6-02DAEA17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FCFEF1-D4E2-49B4-A263-255C1C15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08CDE8-6F12-46FF-A313-262E176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9AE6639-FA9F-4062-B750-9D1BEA67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1B0DA5-534B-486D-B9D2-8480A9C0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7CF-96EB-4C84-A808-1C58404E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70B1-850A-41C6-ACA9-2D3542CA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7E8B2B-8938-47B5-8A7A-7A97B196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9D962C-4A2C-432E-92AB-4D4CCDAD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4BF78D-45EC-4656-AA5F-BEC4D84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DD28033-832A-4567-9600-0C73EB47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3CD614-4F79-43A3-9D35-FE459500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74A759-E131-4D00-9D10-7B53BB9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0FD06-54B7-480E-9FFE-C8D081AC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3FA18D-B8D4-4A56-A52E-63131D15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F2303F-C929-4889-8F7A-A166902E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0AD7CB-65EF-4F2D-BA9D-03040793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398B-229A-4673-9E0E-C83315B9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330ED7-6953-49C4-8C29-C801F47F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B0E77D-2120-47BE-B31E-F82359A6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0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FC4E02-FB18-40ED-9E24-E7FF24FF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2B8060-6AB3-4D7C-9325-65A25E79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382608-F332-4188-A740-FF77E1DC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DDF7CD-4CDB-42DB-AF1A-AC4C71B3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2F79C7-779C-4587-B042-CC729891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0ABEA6B-8A98-4C21-A000-D13C2DB3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88C7DE-A84C-42B3-8EFA-846C473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23E29D-00BD-4EDB-AF2F-2959922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5A69-EC8E-4CFD-B3E2-0C38F300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01437F-A3D4-43D9-BC02-B93A7F2C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31E5E5-4058-4B4E-AB77-135EE5C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850489-12C7-41B6-BB85-77E2AB22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4BAF69-5736-4339-AB18-66F74765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7D5901C-32DE-457B-A1AE-F035E8B5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B7500A-25CE-47C0-9ECE-6C38DC6D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5316C4E-77AB-4BD4-BE83-21F60DBB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E38499-9068-468B-8456-7EF238DD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5B0C83-4655-4EC3-A038-82B298CE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1411EF-77A4-4EB4-8518-0CA643B4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8F6C1-BC09-426A-AA1C-1DB1811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0DDFDF-447B-4D7E-AEB1-A7328434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6A752A-6A79-4191-8B4F-79B2002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CFDEA3-42D0-4713-9627-9C717EC6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FBF9CC-3AD7-485B-9373-8593E6EE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08EF6F-BACE-47F4-B517-5EDF1BF2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0F0A08-4A31-4692-802B-83C8333D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F5B2B4-B0BF-4625-BEAC-63792B0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8E69A2-BEF5-4F68-9B02-68F69475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11A455-D94D-45A9-9AFC-2E94BCF3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97B278-4DFD-4DE5-98E9-A71A1EAD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2A5C-798D-4C12-A974-B3F62953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2F6F84B-7E9E-499B-9E39-9A179152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B2B17F-9215-4E3B-8636-D801EB3E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31229F-87D8-4559-BA05-C37A16FC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42AC48-C2B2-41AF-AF21-EAB24A0A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67604A-BAC0-4D51-9378-089EE9ED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1BB905-3EC1-4D82-8F07-00B9E1C8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F9CA8E3-0C5D-43FD-9AF8-A30ACFDF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18C7121-9DE1-4D59-8491-7DDCF062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BE5A78A-5E81-474E-921F-4FD0B6EF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135DB4-4896-4123-935C-25293127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24C62-E03C-44C1-B5D2-19E03C23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33EA10-1CA9-49CB-BECA-BABBB4D7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637396-F242-4093-982D-8EFE94FB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6CC54D4-ABCD-405C-AFA1-3C3F36ED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5DEF68-B5D4-4A90-B94C-16D01733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591BB2-8746-44D6-82F3-74CCE72C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3F7F1F6-02EB-4B40-9347-B89C6276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492B80-A924-4948-B744-76E3D338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E5AE12-4BF4-46DD-A349-8774E92B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5CF051-8144-4EDF-9137-03CFFE0B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0944F6-CA33-4648-9740-12EAA938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A4D5-34F4-406C-BFC2-A5A6CD3F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981094-8392-42D3-9D2A-4AE5D6201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701B19-70F0-4A2F-B159-3D7A97D8A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9FCC3E-266B-40A7-A81A-EF9D13C9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13EF8F-04BF-45BC-A576-60DC91C1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BDC9F3-05E6-47DE-ACEF-FB0B3528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DD7E28D-2DE0-49C5-BDD5-1CCB0CBF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F7CAEB-21FC-43F4-BC40-1AE4F1B4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517188-DADC-48E1-94B1-148A3A8C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5B89B7-F71A-4AD9-86DB-496B89C0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4E14B9-4251-436A-8C41-233522C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A8BB0-61B5-468D-89B3-2CC26D8A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A5B8C4-EDCB-413F-B39A-5182C9DB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A87FED3-208A-430C-9B7E-60D9BEFA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6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37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9F92B86-3BD1-4607-B9FB-4D19DD07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1D6B859-3C04-45F9-967E-797D49FF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91F5EE-A0F9-4E4E-9D2D-6B7726F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51CA3B-247B-46F1-900A-76025914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9FA8D2-68D2-4346-B896-7718A85C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5A848E0-D520-4A11-B393-953805DB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2145C5-229B-4211-8141-A04C2649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E509F5-CCBB-4E0E-A0EE-E2FF6201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E247-5643-45F0-892C-2EC47C0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F4207DE-A807-4FC5-B7B5-6487CE1E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3AA4C0-6747-4A84-9208-5B99D9A9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FA3155-FCFD-451E-A4E1-1AA78E87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A94E5EF-CAD5-4988-97FA-F39611F7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3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84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18A8C0-07E8-48A9-8A17-5D0952B9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C44CD9-CEB3-4B98-B3A0-23474376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A9C2A36-7078-485F-AC8F-7E395AD8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4F88AF-8A0F-443B-A33C-72666F92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B93C64-1C8E-409B-9971-91BB1DF1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15408E-DBAA-448D-9EFE-30A6970B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42ED-3E9E-4A11-9B3A-F4ED6CEC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B88650-EF4E-40E8-A29E-CF0DF694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373325C-0AF0-4E11-8734-E6D4651F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27B51F-0B58-4043-8E1D-152841A9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D1F306-ED30-44E1-8DC2-58C4F9A1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AF9996-05C3-4DDD-BF0C-B70EABD7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A0E0B68-516A-49F2-9C0B-8D5B2754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2CF7D38-7B75-434E-9E76-25AC80B2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AFA184D-E467-4D2F-9F26-73F6CE7C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FBFEED-72E1-493D-818A-7A8122B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7069D5-1752-4E81-9ACF-CD930FA7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61F-259B-445C-A31D-BA1FABC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DBC3E-2EB7-4766-B4A6-F410D15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4B4B17-3DBD-4319-ADB8-E1707A47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0C8FDD-6D4B-40A6-99D6-CF1003B5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DE5ECA-BEBF-4C75-A846-F4BFB1A7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846909-C5F5-4C2F-9DBB-8AB72F9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D4032F-7224-4711-B6D2-FCDB2246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3E801F-E1EC-4DE6-B1D3-CA1A035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CBDA7E-057A-4291-A0C0-1C1EB80F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211B6A-5CB6-4C7D-A969-CD0DE4D9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AE28E7-172E-4F81-8834-6AA40AFC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EA1E042-D9CA-4A60-AEEF-128CFB806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DF2A-8978-44BC-8145-6EB9878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A8B23F2-BD6F-4679-8C4F-96F6F7DE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5DA0F9-CDEF-4843-B1CD-BD4547C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AFFF9F-95F7-4557-A824-0240D2E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F662CA-D65F-445B-BA61-E0BDEF6F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E54E04-4B8B-4955-A059-E2F74A9A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7CD01EA-9A22-44DE-BD5B-491DE339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9C2DCB6-D3D3-4980-92BC-0EFAC726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CADB1B1-8EB8-40C4-AD20-7AB5A2A6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2D5260-4314-4B53-9FBC-1DD4BE0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8CDC70-977A-411D-8043-457F38332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33E38-4BB1-4133-B046-3AC1DA74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225A5F-A1DF-43FF-9647-8DCE9466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E3DD6ED-397C-4378-B34F-C97D60DF1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26DFBE-68D0-431E-9BE6-BAC572FF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596F7D-9F29-45ED-9609-CD3CE4C9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162849-C471-4C05-AA7E-C310D3D3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619DCD5-CAB6-4312-93EB-2C873953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5456E9-1CCB-4107-8C6E-8FFF0909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6CA601-89DB-4DE8-9184-6DFD36A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DF89ED-2804-4C65-8A73-CC8BA829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58A8C8B-0EA0-4522-A35A-70B597D1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EB4CA-2298-4308-9EB0-97944C1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363926-B8A5-4B39-B44D-C692946E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F9D50E3-A06F-4BAB-9B8B-2407305F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5659EF6-BFF6-4C10-8177-AE907B5E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778AF3-3966-4D2E-BA94-8C02CD504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0C9E60-7823-4EE7-9CED-DF0C87B8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7B31F50-99B6-4E33-A8F8-7482CFEB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70B086-A6DA-4E9C-BDDF-A41632EE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978F75-CBF5-46A4-A2C9-50D83B88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F7A94A-8310-48D5-BFF0-9EA474A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5B6FAB-E600-45C9-8C14-404BE7D8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21842-BB80-4C1C-B672-F8243423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17402E9-BE97-4F28-BE51-47AEBE3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A260D3-577E-4217-9C8C-CDE3047B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32D5E0-F96C-4967-B689-5C6B1DB5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0F36A1-9E72-40EF-BE7D-D09EB71B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C968FF2-09B4-45E9-94A6-B21A8B79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6CE3B16-6102-4DD2-AEBB-BBCECA2A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D618DF9-1DAD-45E1-9897-C74DCF9F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8679809-D5AB-4CED-90B2-1DCF2741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AEFBA3-D3D8-45B9-A303-3BFB568C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ED163C0-C25D-47D3-8741-859D87BC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1BC96-9D68-45D2-A7A3-CF9F2A5E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9193D7F-E535-4E1B-8516-7F0C6E04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50C047-43FF-45AD-882E-864D32DB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9365100-CBF4-44DB-A694-43FF637E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41CED4-A09A-43AD-9E08-F46D9A39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B73AFF0-688E-4D46-ACDB-78E2991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226B5AF-CC24-4097-B3BB-FF2721C3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F77A3B4-2E24-417C-BF3E-3EF18E55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57AC1D-213B-4BBE-ACB9-404CCAE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C8951F9-8090-4EB4-A7AB-10DF4219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B9A486-F054-4662-AFED-962A6C80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37C1D-9079-45B3-8BA0-2CDC5D05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D6F6BF-0505-4943-B62A-D2F89CC3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E994F5-A17A-4551-BFE2-D84E239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4A5A10F-7F68-4A6E-9E8B-15CFAD9B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35A869-501A-4597-9506-37E2E615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DF0518-5345-42CA-9493-16EF0EE6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167283-C4B8-4F6B-9B47-4A18806D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91F7322-E570-4A1B-8B00-369F7C02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99F40C-4A02-4DF5-953A-039F8435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5F89870-BC16-42C0-BBFE-EDA5DC24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4E483A7-70EB-4048-983D-6DB9E950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A1A1D-C30F-43ED-A79D-F46A81FD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1D7B77-7461-41A9-9E05-9822D5D7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93F95C2-8D45-4AEF-A9FF-292527D7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431F679-E46E-4259-9CDB-262D2C82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A618C14-A34D-4FF1-B3F3-EBA47A54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98354D-B44B-4A92-BD2B-D1D4650D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772026-D0D6-4E93-B24D-8C33E5DE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2AC136-6F6E-4F6D-B545-835650C4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3BC24DB-9BC6-4EFA-A713-9EAB00DF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6B1B34-3B51-48ED-81A3-12311A59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569343A-1F63-4D83-9E7A-555F50AD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06782-6589-4AD1-8970-D60B1EA4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5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DB92C70-0D7D-41C3-8BC2-697F02E3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498EF-162E-4F09-B62C-632F371E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273C-419E-44C6-8824-BF4D5B76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BB42-57F2-4893-A450-9F2AA9AB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6CE0-EC1A-48FF-B326-0D0E7244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BD870-28D3-470B-85C4-1B92E93B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C27B0-064B-4089-B776-BD09AB24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34ADD-8932-48D7-ADFD-6AC48922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0499E-A8E1-42CC-8FEC-9419A4AB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77CF7-D377-464B-AA52-8C9F4F64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27E29-D8FB-4B76-A689-2C88D832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7AFA3-AAC2-4E8D-8D17-29C7BF9C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D2B4-7923-462E-8150-3F466310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D466-AEA3-40BF-872D-1D01673A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7773F-7579-4558-B2B6-005D86AA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80385-F09F-46A8-A120-CC16910A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FB79E-C659-426F-83B4-D2CB146D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F9690-A727-4B03-BBA4-A379D432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61593-EA65-494D-BB91-3C912135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B48B5-3474-48F0-9C2C-7246F6E5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72D60-06FF-487C-A236-1DDF00EC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EC5FF-9519-44F4-9EA2-532DE5F7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83987-73F8-424A-B61D-80D4EE19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30FEF-A45C-41FB-94F2-7141874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12E-FA06-4F98-92B0-9F940913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595A-C2A8-41AD-879E-E42F00A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3D315-1639-4995-B875-A8FB4846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DE6BD-F1F6-4ABB-8D5E-3251F68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7B9CD-C23C-4198-ABC7-BCF904D0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794CF-628C-4099-823F-2494B634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9D272-A041-44F6-A512-D8090198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F3168-CC11-4EA9-98DA-BE7EE2A5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DBA33-70E3-47EE-A5E7-AB33978A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D196-1497-4EED-A05A-F6ABE6D5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BE01-EB85-46DF-8E81-2327231A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487-1CB9-4801-9EAC-44D63382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AB126-E37B-415B-972D-8DD2187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C7EAE-13D2-4B26-B831-D6DA2EDD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0DB68-108A-4C75-97B1-C819F955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AB58-774D-4D86-8DE5-3C4A7F74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54288-7FF7-4BF1-8096-E00AD2566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6DB5-AF13-4708-A324-17BA8A62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D1EB6-ADD0-4570-9CA2-AD687C4D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21173-05C9-4D12-B0ED-BEA56B63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722EB-DC8D-4229-B303-DE8AB521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3CBDA-5B39-4994-BD30-44711543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AB4E-7287-40C0-8A89-2B754935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19040" y="136080"/>
            <a:ext cx="829152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8FDBF-A385-430D-8A3A-7767E55B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82A5D9-9E87-4C36-A00F-E6028DE3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E1A09-C2E5-43B9-9C61-6D37C04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1B4F5-AC74-4591-A4FA-EA0EF126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19040" y="3675240"/>
            <a:ext cx="82915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A6138-79B3-467A-AE96-9CB6A53F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7760" y="100188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1904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67760" y="3675240"/>
            <a:ext cx="4046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50E58-6175-459F-ADD6-7426D299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2272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6400" y="100188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1904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2272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6400" y="3675240"/>
            <a:ext cx="266976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79473-2A0F-4716-B611-7E5E860C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EF682-8B93-40EF-B0DB-55CBC1EE8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C9392-EF71-4DAC-A7D1-0450E731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6C023-CBB8-4266-A45D-34A71D325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3.xml"/><Relationship Id="rId7" Type="http://schemas.openxmlformats.org/officeDocument/2006/relationships/slideLayout" Target="../slideLayouts/slideLayout374.xml"/><Relationship Id="rId8" Type="http://schemas.openxmlformats.org/officeDocument/2006/relationships/slideLayout" Target="../slideLayouts/slideLayout375.xml"/><Relationship Id="rId9" Type="http://schemas.openxmlformats.org/officeDocument/2006/relationships/slideLayout" Target="../slideLayouts/slideLayout376.xml"/><Relationship Id="rId10" Type="http://schemas.openxmlformats.org/officeDocument/2006/relationships/slideLayout" Target="../slideLayouts/slideLayout377.xml"/><Relationship Id="rId11" Type="http://schemas.openxmlformats.org/officeDocument/2006/relationships/slideLayout" Target="../slideLayouts/slideLayout378.xml"/><Relationship Id="rId12" Type="http://schemas.openxmlformats.org/officeDocument/2006/relationships/slideLayout" Target="../slideLayouts/slideLayout379.xml"/><Relationship Id="rId13" Type="http://schemas.openxmlformats.org/officeDocument/2006/relationships/slideLayout" Target="../slideLayouts/slideLayout380.xml"/><Relationship Id="rId14" Type="http://schemas.openxmlformats.org/officeDocument/2006/relationships/slideLayout" Target="../slideLayouts/slideLayout381.xml"/><Relationship Id="rId15" Type="http://schemas.openxmlformats.org/officeDocument/2006/relationships/slideLayout" Target="../slideLayouts/slideLayout382.xml"/><Relationship Id="rId16" Type="http://schemas.openxmlformats.org/officeDocument/2006/relationships/slideLayout" Target="../slideLayouts/slideLayout383.xml"/><Relationship Id="rId17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09.xml"/><Relationship Id="rId6" Type="http://schemas.openxmlformats.org/officeDocument/2006/relationships/slideLayout" Target="../slideLayouts/slideLayout410.xml"/><Relationship Id="rId7" Type="http://schemas.openxmlformats.org/officeDocument/2006/relationships/slideLayout" Target="../slideLayouts/slideLayout411.xml"/><Relationship Id="rId8" Type="http://schemas.openxmlformats.org/officeDocument/2006/relationships/slideLayout" Target="../slideLayouts/slideLayout412.xml"/><Relationship Id="rId9" Type="http://schemas.openxmlformats.org/officeDocument/2006/relationships/slideLayout" Target="../slideLayouts/slideLayout413.xml"/><Relationship Id="rId10" Type="http://schemas.openxmlformats.org/officeDocument/2006/relationships/slideLayout" Target="../slideLayouts/slideLayout414.xml"/><Relationship Id="rId11" Type="http://schemas.openxmlformats.org/officeDocument/2006/relationships/slideLayout" Target="../slideLayouts/slideLayout415.xml"/><Relationship Id="rId12" Type="http://schemas.openxmlformats.org/officeDocument/2006/relationships/slideLayout" Target="../slideLayouts/slideLayout416.xml"/><Relationship Id="rId13" Type="http://schemas.openxmlformats.org/officeDocument/2006/relationships/slideLayout" Target="../slideLayouts/slideLayout417.xml"/><Relationship Id="rId14" Type="http://schemas.openxmlformats.org/officeDocument/2006/relationships/slideLayout" Target="../slideLayouts/slideLayout418.xml"/><Relationship Id="rId15" Type="http://schemas.openxmlformats.org/officeDocument/2006/relationships/slideLayout" Target="../slideLayouts/slideLayout419.xml"/><Relationship Id="rId16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33.xml"/><Relationship Id="rId6" Type="http://schemas.openxmlformats.org/officeDocument/2006/relationships/slideLayout" Target="../slideLayouts/slideLayout434.xml"/><Relationship Id="rId7" Type="http://schemas.openxmlformats.org/officeDocument/2006/relationships/slideLayout" Target="../slideLayouts/slideLayout435.xml"/><Relationship Id="rId8" Type="http://schemas.openxmlformats.org/officeDocument/2006/relationships/slideLayout" Target="../slideLayouts/slideLayout436.xml"/><Relationship Id="rId9" Type="http://schemas.openxmlformats.org/officeDocument/2006/relationships/slideLayout" Target="../slideLayouts/slideLayout437.xml"/><Relationship Id="rId10" Type="http://schemas.openxmlformats.org/officeDocument/2006/relationships/slideLayout" Target="../slideLayouts/slideLayout438.xml"/><Relationship Id="rId11" Type="http://schemas.openxmlformats.org/officeDocument/2006/relationships/slideLayout" Target="../slideLayouts/slideLayout439.xml"/><Relationship Id="rId12" Type="http://schemas.openxmlformats.org/officeDocument/2006/relationships/slideLayout" Target="../slideLayouts/slideLayout440.xml"/><Relationship Id="rId13" Type="http://schemas.openxmlformats.org/officeDocument/2006/relationships/slideLayout" Target="../slideLayouts/slideLayout441.xml"/><Relationship Id="rId14" Type="http://schemas.openxmlformats.org/officeDocument/2006/relationships/slideLayout" Target="../slideLayouts/slideLayout442.xml"/><Relationship Id="rId15" Type="http://schemas.openxmlformats.org/officeDocument/2006/relationships/slideLayout" Target="../slideLayouts/slideLayout443.xml"/><Relationship Id="rId16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57.xml"/><Relationship Id="rId6" Type="http://schemas.openxmlformats.org/officeDocument/2006/relationships/slideLayout" Target="../slideLayouts/slideLayout458.xml"/><Relationship Id="rId7" Type="http://schemas.openxmlformats.org/officeDocument/2006/relationships/slideLayout" Target="../slideLayouts/slideLayout459.xml"/><Relationship Id="rId8" Type="http://schemas.openxmlformats.org/officeDocument/2006/relationships/slideLayout" Target="../slideLayouts/slideLayout460.xml"/><Relationship Id="rId9" Type="http://schemas.openxmlformats.org/officeDocument/2006/relationships/slideLayout" Target="../slideLayouts/slideLayout461.xml"/><Relationship Id="rId10" Type="http://schemas.openxmlformats.org/officeDocument/2006/relationships/slideLayout" Target="../slideLayouts/slideLayout462.xml"/><Relationship Id="rId11" Type="http://schemas.openxmlformats.org/officeDocument/2006/relationships/slideLayout" Target="../slideLayouts/slideLayout463.xml"/><Relationship Id="rId12" Type="http://schemas.openxmlformats.org/officeDocument/2006/relationships/slideLayout" Target="../slideLayouts/slideLayout464.xml"/><Relationship Id="rId13" Type="http://schemas.openxmlformats.org/officeDocument/2006/relationships/slideLayout" Target="../slideLayouts/slideLayout465.xml"/><Relationship Id="rId14" Type="http://schemas.openxmlformats.org/officeDocument/2006/relationships/slideLayout" Target="../slideLayouts/slideLayout466.xml"/><Relationship Id="rId15" Type="http://schemas.openxmlformats.org/officeDocument/2006/relationships/slideLayout" Target="../slideLayouts/slideLayout467.xml"/><Relationship Id="rId16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69.xml"/><Relationship Id="rId6" Type="http://schemas.openxmlformats.org/officeDocument/2006/relationships/slideLayout" Target="../slideLayouts/slideLayout470.xml"/><Relationship Id="rId7" Type="http://schemas.openxmlformats.org/officeDocument/2006/relationships/slideLayout" Target="../slideLayouts/slideLayout471.xml"/><Relationship Id="rId8" Type="http://schemas.openxmlformats.org/officeDocument/2006/relationships/slideLayout" Target="../slideLayouts/slideLayout472.xml"/><Relationship Id="rId9" Type="http://schemas.openxmlformats.org/officeDocument/2006/relationships/slideLayout" Target="../slideLayouts/slideLayout473.xml"/><Relationship Id="rId10" Type="http://schemas.openxmlformats.org/officeDocument/2006/relationships/slideLayout" Target="../slideLayouts/slideLayout474.xml"/><Relationship Id="rId11" Type="http://schemas.openxmlformats.org/officeDocument/2006/relationships/slideLayout" Target="../slideLayouts/slideLayout475.xml"/><Relationship Id="rId12" Type="http://schemas.openxmlformats.org/officeDocument/2006/relationships/slideLayout" Target="../slideLayouts/slideLayout476.xml"/><Relationship Id="rId13" Type="http://schemas.openxmlformats.org/officeDocument/2006/relationships/slideLayout" Target="../slideLayouts/slideLayout477.xml"/><Relationship Id="rId14" Type="http://schemas.openxmlformats.org/officeDocument/2006/relationships/slideLayout" Target="../slideLayouts/slideLayout478.xml"/><Relationship Id="rId15" Type="http://schemas.openxmlformats.org/officeDocument/2006/relationships/slideLayout" Target="../slideLayouts/slideLayout479.xml"/><Relationship Id="rId16" Type="http://schemas.openxmlformats.org/officeDocument/2006/relationships/slideLayout" Target="../slideLayouts/slideLayout480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D71C-6FAA-474C-A3EA-D03451472E9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1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2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42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3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7D8-14DD-4BC4-9588-383C9A18138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66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67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2787-ABFE-45C7-A736-A385EDD1692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02D4-5FCA-47BA-85A4-92F67309216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55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55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6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8A5A-8C00-4550-9419-D09B445B875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0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0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C35A-7156-479E-AD8A-35289BA0BA6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50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5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53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D524-E1C6-42E9-935F-14091AB489B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69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69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69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0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1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2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209F-D281-416E-B119-B8F60B218D7B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4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4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4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5533-8E26-4C37-B083-EF3B47676D3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79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7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79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E254-AD69-4C37-B6DC-68EE8A762FCD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3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3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84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41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330-4FE1-466F-9C76-7A8D79E58DD4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50B6-5AB0-4BE7-8170-E6A0BFC595F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884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885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DEB4-D8D1-498A-B09F-C7A5DC2C9EE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2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3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3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B9B3-FA36-4EE4-8D85-BF0D83F2194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7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7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7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6410-2031-48E0-9F57-70D8C566E0C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2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2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2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EE72-30B6-4687-B92A-812088C60A6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06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06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07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FF21-0BBC-48B6-B59A-828292049B4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14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1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17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18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19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0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62F1-6F1C-4F2A-8F3E-182BC6833C1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16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16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16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0AA7-5FC0-4691-B4CF-5036CDD5FE0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0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1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1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8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8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0301-F7B2-4A70-8452-4C2ABBE1604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25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25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25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59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 type="dt" idx="8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 type="ftr" idx="8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 type="sldNum" idx="8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E2BF-7E8D-4F2D-961A-2DE129D0640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1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02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03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 type="dt" idx="8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 type="ftr" idx="8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3663-2F62-4D3C-AB2E-B95D2C1F9D2F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A329-684A-4A01-AFB1-0E5F53516F6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4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5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8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8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9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35C8-D5ED-4950-B50C-E06F91C718E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39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39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 type="dt" idx="9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 type="ftr" idx="9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 type="sldNum" idx="9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B4CC-3612-4D1C-9020-2F174F42A258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443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 type="dt" idx="9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 type="ftr" idx="9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 type="sldNum" idx="9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C732-F5B3-461E-BF36-D69568EA388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6"/>
    <p:sldLayoutId id="2147484053" r:id="rId7"/>
    <p:sldLayoutId id="2147484054" r:id="rId8"/>
    <p:sldLayoutId id="2147484055" r:id="rId9"/>
    <p:sldLayoutId id="2147484056" r:id="rId10"/>
    <p:sldLayoutId id="2147484057" r:id="rId11"/>
    <p:sldLayoutId id="2147484058" r:id="rId12"/>
    <p:sldLayoutId id="2147484059" r:id="rId13"/>
    <p:sldLayoutId id="2147484060" r:id="rId14"/>
    <p:sldLayoutId id="2147484061" r:id="rId15"/>
    <p:sldLayoutId id="2147484062" r:id="rId16"/>
    <p:sldLayoutId id="2147484063" r:id="rId17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486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87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89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 type="dt" idx="9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 type="ftr" idx="9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 type="sldNum" idx="9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04D0-5848-47F8-8917-125A05E849D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36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7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8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0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0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2234-D457-42BB-8B09-02F53B3B9CEA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58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58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58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dt" idx="10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10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 type="sldNum" idx="10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8899-4DF6-4BAE-88D9-3D7483B27B5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5"/>
    <p:sldLayoutId id="2147484092" r:id="rId6"/>
    <p:sldLayoutId id="2147484093" r:id="rId7"/>
    <p:sldLayoutId id="2147484094" r:id="rId8"/>
    <p:sldLayoutId id="2147484095" r:id="rId9"/>
    <p:sldLayoutId id="2147484096" r:id="rId10"/>
    <p:sldLayoutId id="2147484097" r:id="rId11"/>
    <p:sldLayoutId id="2147484098" r:id="rId12"/>
    <p:sldLayoutId id="2147484099" r:id="rId13"/>
    <p:sldLayoutId id="2147484100" r:id="rId14"/>
    <p:sldLayoutId id="2147484101" r:id="rId15"/>
    <p:sldLayoutId id="2147484102" r:id="rId16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 type="dt" idx="10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 type="ftr" idx="10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 type="sldNum" idx="10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623B-7777-4F3A-9A0D-8901867D59D7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6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6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6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677" name="空心弧 10"/>
          <p:cNvSpPr/>
          <p:nvPr/>
        </p:nvSpPr>
        <p:spPr>
          <a:xfrm rot="7086000">
            <a:off x="5523840" y="2592360"/>
            <a:ext cx="1482840" cy="1482840"/>
          </a:xfrm>
          <a:custGeom>
            <a:avLst/>
            <a:gdLst>
              <a:gd name="textAreaLeft" fmla="*/ 0 w 1482840"/>
              <a:gd name="textAreaRight" fmla="*/ 1483200 w 1482840"/>
              <a:gd name="textAreaTop" fmla="*/ 0 h 1482840"/>
              <a:gd name="textAreaBottom" fmla="*/ 1482840 h 1482840"/>
            </a:gdLst>
            <a:ahLst/>
            <a:rect l="textAreaLeft" t="textAreaTop" r="textAreaRight" b="textAreaBottom"/>
            <a:pathLst>
              <a:path w="1482725" h="1482725">
                <a:moveTo>
                  <a:pt x="719254" y="1482395"/>
                </a:moveTo>
                <a:lnTo>
                  <a:pt x="719254" y="1482395"/>
                </a:lnTo>
                <a:arcTo wR="741363" hR="741363" stAng="5502536" swAng="18077789"/>
                <a:lnTo>
                  <a:pt x="1349991" y="1136690"/>
                </a:lnTo>
                <a:lnTo>
                  <a:pt x="1349991" y="1136690"/>
                </a:lnTo>
                <a:arcTo wR="725749" hR="725749" stAng="1980319" swAng="-18077794"/>
                <a:close/>
              </a:path>
            </a:pathLst>
          </a:custGeom>
          <a:solidFill>
            <a:srgbClr val="869d59"/>
          </a:solidFill>
          <a:ln w="324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 type="dt" idx="10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 type="ftr" idx="11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B938-20AE-4B40-A453-8E88D4A04039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5"/>
    <p:sldLayoutId id="2147484118" r:id="rId6"/>
    <p:sldLayoutId id="2147484119" r:id="rId7"/>
    <p:sldLayoutId id="2147484120" r:id="rId8"/>
    <p:sldLayoutId id="2147484121" r:id="rId9"/>
    <p:sldLayoutId id="2147484122" r:id="rId10"/>
    <p:sldLayoutId id="2147484123" r:id="rId11"/>
    <p:sldLayoutId id="2147484124" r:id="rId12"/>
    <p:sldLayoutId id="2147484125" r:id="rId13"/>
    <p:sldLayoutId id="2147484126" r:id="rId14"/>
    <p:sldLayoutId id="2147484127" r:id="rId15"/>
    <p:sldLayoutId id="2147484128" r:id="rId16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9" name="图片 10" descr=""/>
          <p:cNvPicPr/>
          <p:nvPr/>
        </p:nvPicPr>
        <p:blipFill>
          <a:blip r:embed="rId2"/>
          <a:srcRect l="10872" t="1311" r="2133" b="15239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20" name="矩形 11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21" name="矩形 11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2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 type="dt" idx="11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 type="ftr" idx="11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 type="sldNum" idx="11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A284-8C4E-4C41-9866-BBB7534694C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76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76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76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11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11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11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FFE6-1C66-4ACB-9F28-E5B51CA965D1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5"/>
    <p:sldLayoutId id="2147484144" r:id="rId6"/>
    <p:sldLayoutId id="2147484145" r:id="rId7"/>
    <p:sldLayoutId id="2147484146" r:id="rId8"/>
    <p:sldLayoutId id="2147484147" r:id="rId9"/>
    <p:sldLayoutId id="2147484148" r:id="rId10"/>
    <p:sldLayoutId id="2147484149" r:id="rId11"/>
    <p:sldLayoutId id="2147484150" r:id="rId12"/>
    <p:sldLayoutId id="2147484151" r:id="rId13"/>
    <p:sldLayoutId id="2147484152" r:id="rId14"/>
    <p:sldLayoutId id="2147484153" r:id="rId15"/>
    <p:sldLayoutId id="2147484154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39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40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42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6A77-EE71-4B3A-B57F-5295B56AD7F0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0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11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1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14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 type="dt" idx="11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 type="ftr" idx="11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19" name="PlaceHolder 5"/>
          <p:cNvSpPr>
            <a:spLocks noGrp="1"/>
          </p:cNvSpPr>
          <p:nvPr>
            <p:ph type="sldNum" idx="12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F474-6A63-4378-8C97-5FB124ED266C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5"/>
    <p:sldLayoutId id="2147484157" r:id="rId6"/>
    <p:sldLayoutId id="2147484158" r:id="rId7"/>
    <p:sldLayoutId id="2147484159" r:id="rId8"/>
    <p:sldLayoutId id="2147484160" r:id="rId9"/>
    <p:sldLayoutId id="2147484161" r:id="rId10"/>
    <p:sldLayoutId id="2147484162" r:id="rId11"/>
    <p:sldLayoutId id="2147484163" r:id="rId12"/>
    <p:sldLayoutId id="2147484164" r:id="rId13"/>
    <p:sldLayoutId id="2147484165" r:id="rId14"/>
    <p:sldLayoutId id="2147484166" r:id="rId15"/>
    <p:sldLayoutId id="2147484167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185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186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188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0" descr=""/>
          <p:cNvPicPr/>
          <p:nvPr/>
        </p:nvPicPr>
        <p:blipFill>
          <a:blip r:embed="rId5"/>
          <a:srcRect l="0" t="1679" r="400" b="0"/>
          <a:stretch/>
        </p:blipFill>
        <p:spPr>
          <a:xfrm>
            <a:off x="1440" y="0"/>
            <a:ext cx="9142560" cy="68612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F8A-F711-4F23-B5C8-21C7DBC074CE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32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33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35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52B4-1CB1-471D-B2C0-CA52F2090222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278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27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281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82" name="任意多边形 10"/>
          <p:cNvSpPr/>
          <p:nvPr/>
        </p:nvSpPr>
        <p:spPr>
          <a:xfrm>
            <a:off x="2149560" y="2313000"/>
            <a:ext cx="4900680" cy="1801800"/>
          </a:xfrm>
          <a:custGeom>
            <a:avLst/>
            <a:gdLst/>
            <a:ahLst/>
            <a:rect l="l" t="t" r="r" b="b"/>
            <a:pathLst>
              <a:path w="4901184" h="1801368">
                <a:moveTo>
                  <a:pt x="1112071" y="0"/>
                </a:moveTo>
                <a:lnTo>
                  <a:pt x="4901184" y="0"/>
                </a:lnTo>
                <a:lnTo>
                  <a:pt x="4901184" y="1008251"/>
                </a:lnTo>
                <a:lnTo>
                  <a:pt x="3799357" y="1801368"/>
                </a:lnTo>
                <a:lnTo>
                  <a:pt x="0" y="1801368"/>
                </a:lnTo>
                <a:lnTo>
                  <a:pt x="0" y="800490"/>
                </a:lnTo>
                <a:close/>
              </a:path>
            </a:pathLst>
          </a:custGeom>
          <a:solidFill>
            <a:srgbClr val="869d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3" name="直接连接符 11"/>
          <p:cNvSpPr/>
          <p:nvPr/>
        </p:nvSpPr>
        <p:spPr>
          <a:xfrm flipH="1">
            <a:off x="1645920" y="1947960"/>
            <a:ext cx="2103480" cy="151740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4" name="直接连接符 12"/>
          <p:cNvSpPr/>
          <p:nvPr/>
        </p:nvSpPr>
        <p:spPr>
          <a:xfrm flipH="1">
            <a:off x="5403600" y="2981160"/>
            <a:ext cx="2103480" cy="1517760"/>
          </a:xfrm>
          <a:prstGeom prst="line">
            <a:avLst/>
          </a:prstGeom>
          <a:ln w="12600">
            <a:solidFill>
              <a:srgbClr val="6476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DB5B-3C61-46D7-B787-4CC23BB7A1E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27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2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30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CEFD-976A-4433-AF65-EEDC507B7A13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图片 8" descr=""/>
          <p:cNvPicPr/>
          <p:nvPr/>
        </p:nvPicPr>
        <p:blipFill>
          <a:blip r:embed="rId2"/>
          <a:srcRect l="404" t="1679" r="0" b="2790"/>
          <a:stretch/>
        </p:blipFill>
        <p:spPr>
          <a:xfrm>
            <a:off x="0" y="0"/>
            <a:ext cx="9142560" cy="6862680"/>
          </a:xfrm>
          <a:prstGeom prst="rect">
            <a:avLst/>
          </a:prstGeom>
          <a:ln w="0">
            <a:noFill/>
          </a:ln>
        </p:spPr>
      </p:pic>
      <p:grpSp>
        <p:nvGrpSpPr>
          <p:cNvPr id="373" name="矩形 6"/>
          <p:cNvGrpSpPr/>
          <p:nvPr/>
        </p:nvGrpSpPr>
        <p:grpSpPr>
          <a:xfrm>
            <a:off x="-6480" y="-6480"/>
            <a:ext cx="9156960" cy="6510600"/>
            <a:chOff x="-6480" y="-6480"/>
            <a:chExt cx="9156960" cy="6510600"/>
          </a:xfrm>
        </p:grpSpPr>
        <p:pic>
          <p:nvPicPr>
            <p:cNvPr id="374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51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0" y="0"/>
              <a:ext cx="9144000" cy="64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f3f3f"/>
                </a:solidFill>
                <a:latin typeface="Arial"/>
              </a:endParaRPr>
            </a:p>
          </p:txBody>
        </p:sp>
      </p:grpSp>
      <p:pic>
        <p:nvPicPr>
          <p:cNvPr id="376" name="图片 9" descr=""/>
          <p:cNvPicPr/>
          <p:nvPr/>
        </p:nvPicPr>
        <p:blipFill>
          <a:blip r:embed="rId4"/>
          <a:srcRect l="404" t="1679" r="0" b="2790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9040" y="136080"/>
            <a:ext cx="829152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9d5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19040" y="1001880"/>
            <a:ext cx="8291520" cy="51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1800"/>
              </a:spcBef>
              <a:buClr>
                <a:srgbClr val="b4b75c"/>
              </a:buClr>
              <a:buSzPct val="70000"/>
              <a:buFont typeface="Wingdings 2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1" marL="803160" indent="-27144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647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764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92929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7342-3486-40B1-A1F0-6100CE74DE46}" type="slidenum">
              <a:rPr b="0" lang="zh-CN" sz="2400" spc="-1" strike="noStrike">
                <a:solidFill>
                  <a:srgbClr val="92929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TextBox 2"/>
          <p:cNvSpPr/>
          <p:nvPr/>
        </p:nvSpPr>
        <p:spPr>
          <a:xfrm>
            <a:off x="1084320" y="217008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幼圆"/>
                <a:ea typeface="幼圆"/>
              </a:rPr>
              <a:t>4.</a:t>
            </a:r>
            <a:r>
              <a:rPr b="1" lang="zh-CN" sz="4800" spc="-1" strike="noStrike">
                <a:solidFill>
                  <a:srgbClr val="0000cc"/>
                </a:solidFill>
                <a:latin typeface="幼圆"/>
                <a:ea typeface="幼圆"/>
              </a:rPr>
              <a:t>口语交际：有趣的动物</a:t>
            </a:r>
            <a:endParaRPr b="0" lang="en-US" sz="4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7" name="TextBox 3"/>
          <p:cNvSpPr/>
          <p:nvPr/>
        </p:nvSpPr>
        <p:spPr>
          <a:xfrm>
            <a:off x="2031120" y="428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58" name="TextBox 4"/>
          <p:cNvSpPr/>
          <p:nvPr/>
        </p:nvSpPr>
        <p:spPr>
          <a:xfrm>
            <a:off x="488880" y="5129280"/>
            <a:ext cx="69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苏州市吴江区小学组块教学研究室 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朱祺  赵桂芝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直接连接符 70"/>
          <p:cNvSpPr/>
          <p:nvPr/>
        </p:nvSpPr>
        <p:spPr>
          <a:xfrm>
            <a:off x="912960" y="1371600"/>
            <a:ext cx="7318080" cy="0"/>
          </a:xfrm>
          <a:prstGeom prst="line">
            <a:avLst/>
          </a:prstGeom>
          <a:ln w="6480">
            <a:solidFill>
              <a:srgbClr val="869d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6" name=""/>
          <p:cNvSpPr txBox="1"/>
          <p:nvPr/>
        </p:nvSpPr>
        <p:spPr>
          <a:xfrm>
            <a:off x="714240" y="1836720"/>
            <a:ext cx="75168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苏州市吴江区小学组块教学研究室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朱祺 赵桂芝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开 发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 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2017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年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8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月</a:t>
            </a:r>
            <a:r>
              <a:rPr b="1" lang="en-US" sz="3600" spc="-1" strike="noStrike">
                <a:solidFill>
                  <a:srgbClr val="3f3f3f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3f3f3f"/>
                </a:solidFill>
                <a:latin typeface="楷体"/>
                <a:ea typeface="楷体"/>
              </a:rPr>
              <a:t>日</a:t>
            </a:r>
            <a:endParaRPr b="0" lang="en-US" sz="3600" spc="-1" strike="noStrike">
              <a:solidFill>
                <a:srgbClr val="647643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15760" y="447480"/>
            <a:ext cx="31971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猜猜我是谁？</a:t>
            </a: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0" name="图片占位符 4" descr=""/>
          <p:cNvPicPr/>
          <p:nvPr/>
        </p:nvPicPr>
        <p:blipFill>
          <a:blip r:embed="rId1"/>
          <a:srcRect l="341" t="0" r="341" b="0"/>
          <a:stretch/>
        </p:blipFill>
        <p:spPr>
          <a:xfrm>
            <a:off x="4386240" y="627120"/>
            <a:ext cx="4478400" cy="4478400"/>
          </a:xfrm>
          <a:prstGeom prst="rect">
            <a:avLst/>
          </a:prstGeom>
          <a:ln w="0">
            <a:noFill/>
          </a:ln>
        </p:spPr>
      </p:pic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30360" y="1763640"/>
            <a:ext cx="319536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头戴红缨帽，身穿小绿袍；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学习人说话，小嘴真乖巧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钩钩嘴儿巧，身穿彩色袍，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1f1f"/>
                </a:solidFill>
                <a:latin typeface="黑体"/>
              </a:rPr>
              <a:t>鸟类里面找，学舌逗人笑。</a:t>
            </a: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7643"/>
              </a:solidFill>
              <a:latin typeface="Arial"/>
            </a:endParaRPr>
          </a:p>
        </p:txBody>
      </p:sp>
      <p:sp>
        <p:nvSpPr>
          <p:cNvPr id="1862" name="文本框 7"/>
          <p:cNvSpPr/>
          <p:nvPr/>
        </p:nvSpPr>
        <p:spPr>
          <a:xfrm>
            <a:off x="1200240" y="5029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谜底：（鹦鹉）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 txBox="1"/>
          <p:nvPr/>
        </p:nvSpPr>
        <p:spPr>
          <a:xfrm>
            <a:off x="739440" y="1200240"/>
            <a:ext cx="25542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习人说话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“</a:t>
            </a:r>
            <a:r>
              <a:rPr b="1" lang="zh-CN" sz="2400" spc="-1" strike="noStrike">
                <a:solidFill>
                  <a:srgbClr val="1f1f1f"/>
                </a:solidFill>
                <a:latin typeface="黑体"/>
              </a:rPr>
              <a:t>学舌逗人笑”</a:t>
            </a: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7643"/>
              </a:solidFill>
              <a:latin typeface="Arial"/>
            </a:endParaRPr>
          </a:p>
        </p:txBody>
      </p:sp>
      <p:pic>
        <p:nvPicPr>
          <p:cNvPr id="1864" name="图片 4" descr=""/>
          <p:cNvPicPr/>
          <p:nvPr/>
        </p:nvPicPr>
        <p:blipFill>
          <a:blip r:embed="rId1"/>
          <a:stretch/>
        </p:blipFill>
        <p:spPr>
          <a:xfrm>
            <a:off x="6480000" y="2739960"/>
            <a:ext cx="1860840" cy="1860480"/>
          </a:xfrm>
          <a:prstGeom prst="rect">
            <a:avLst/>
          </a:prstGeom>
          <a:ln w="0">
            <a:noFill/>
          </a:ln>
        </p:spPr>
      </p:pic>
      <p:sp>
        <p:nvSpPr>
          <p:cNvPr id="1865" name="思想气泡: 云 5"/>
          <p:cNvSpPr/>
          <p:nvPr/>
        </p:nvSpPr>
        <p:spPr>
          <a:xfrm>
            <a:off x="3564000" y="969840"/>
            <a:ext cx="3643200" cy="1576440"/>
          </a:xfrm>
          <a:prstGeom prst="cloudCallout">
            <a:avLst>
              <a:gd name="adj1" fmla="val 51282"/>
              <a:gd name="adj2" fmla="val 87615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是怎么猜出来的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66" name="思想气泡: 云 6"/>
          <p:cNvSpPr/>
          <p:nvPr/>
        </p:nvSpPr>
        <p:spPr>
          <a:xfrm>
            <a:off x="2336760" y="4297320"/>
            <a:ext cx="3456000" cy="1511280"/>
          </a:xfrm>
          <a:prstGeom prst="cloudCallout">
            <a:avLst>
              <a:gd name="adj1" fmla="val 80351"/>
              <a:gd name="adj2" fmla="val -52037"/>
            </a:avLst>
          </a:prstGeom>
          <a:solidFill>
            <a:srgbClr val="ffffff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有趣吗？</a:t>
            </a: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68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69" name="文本框 11"/>
          <p:cNvSpPr/>
          <p:nvPr/>
        </p:nvSpPr>
        <p:spPr>
          <a:xfrm>
            <a:off x="244440" y="1792440"/>
            <a:ext cx="39625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你对我的介绍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还满意吗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385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869d59"/>
              </a:solidFill>
              <a:latin typeface="Arial"/>
            </a:endParaRPr>
          </a:p>
        </p:txBody>
      </p:sp>
      <p:pic>
        <p:nvPicPr>
          <p:cNvPr id="1871" name="内容占位符 9" descr=""/>
          <p:cNvPicPr/>
          <p:nvPr/>
        </p:nvPicPr>
        <p:blipFill>
          <a:blip r:embed="rId1"/>
          <a:stretch/>
        </p:blipFill>
        <p:spPr>
          <a:xfrm>
            <a:off x="3419640" y="1417680"/>
            <a:ext cx="4886280" cy="3892680"/>
          </a:xfrm>
          <a:prstGeom prst="rect">
            <a:avLst/>
          </a:prstGeom>
          <a:ln w="0">
            <a:noFill/>
          </a:ln>
        </p:spPr>
      </p:pic>
      <p:sp>
        <p:nvSpPr>
          <p:cNvPr id="1872" name="文本框 11"/>
          <p:cNvSpPr/>
          <p:nvPr/>
        </p:nvSpPr>
        <p:spPr>
          <a:xfrm>
            <a:off x="244440" y="1792440"/>
            <a:ext cx="39625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f3f3f"/>
                </a:solidFill>
                <a:latin typeface="黑体"/>
              </a:rPr>
              <a:t>谁也能试一试？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文本框 22"/>
          <p:cNvSpPr/>
          <p:nvPr/>
        </p:nvSpPr>
        <p:spPr>
          <a:xfrm>
            <a:off x="630360" y="341280"/>
            <a:ext cx="7883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69d59"/>
                </a:solidFill>
                <a:latin typeface="Arial"/>
              </a:rPr>
              <a:t>我是小小讲解员</a:t>
            </a:r>
            <a:endParaRPr b="0" lang="en-US" sz="32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74" name="图片 23" descr=""/>
          <p:cNvPicPr/>
          <p:nvPr/>
        </p:nvPicPr>
        <p:blipFill>
          <a:blip r:embed="rId1"/>
          <a:stretch/>
        </p:blipFill>
        <p:spPr>
          <a:xfrm>
            <a:off x="773280" y="1314360"/>
            <a:ext cx="7597440" cy="4280040"/>
          </a:xfrm>
          <a:prstGeom prst="rect">
            <a:avLst/>
          </a:prstGeom>
          <a:ln w="0">
            <a:noFill/>
          </a:ln>
        </p:spPr>
      </p:pic>
      <p:sp>
        <p:nvSpPr>
          <p:cNvPr id="1875" name="文本框 24"/>
          <p:cNvSpPr/>
          <p:nvPr/>
        </p:nvSpPr>
        <p:spPr>
          <a:xfrm>
            <a:off x="630360" y="5753160"/>
            <a:ext cx="7883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1f1f1f"/>
                </a:solidFill>
                <a:latin typeface="Arial"/>
              </a:rPr>
              <a:t>小朋友，你能为游客介绍大象吗？</a:t>
            </a:r>
            <a:endParaRPr b="0" lang="en-US" sz="24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6" name="内容占位符 4" descr=""/>
          <p:cNvPicPr/>
          <p:nvPr/>
        </p:nvPicPr>
        <p:blipFill>
          <a:blip r:embed="rId1"/>
          <a:stretch/>
        </p:blipFill>
        <p:spPr>
          <a:xfrm>
            <a:off x="163440" y="182520"/>
            <a:ext cx="4286160" cy="2724120"/>
          </a:xfrm>
          <a:prstGeom prst="rect">
            <a:avLst/>
          </a:prstGeom>
          <a:ln w="0">
            <a:noFill/>
          </a:ln>
        </p:spPr>
      </p:pic>
      <p:pic>
        <p:nvPicPr>
          <p:cNvPr id="1877" name="图片 6" descr=""/>
          <p:cNvPicPr/>
          <p:nvPr/>
        </p:nvPicPr>
        <p:blipFill>
          <a:blip r:embed="rId2"/>
          <a:stretch/>
        </p:blipFill>
        <p:spPr>
          <a:xfrm>
            <a:off x="4626000" y="182520"/>
            <a:ext cx="4338720" cy="2724120"/>
          </a:xfrm>
          <a:prstGeom prst="rect">
            <a:avLst/>
          </a:prstGeom>
          <a:ln w="0">
            <a:noFill/>
          </a:ln>
        </p:spPr>
      </p:pic>
      <p:pic>
        <p:nvPicPr>
          <p:cNvPr id="1878" name="图片 10" descr=""/>
          <p:cNvPicPr/>
          <p:nvPr/>
        </p:nvPicPr>
        <p:blipFill>
          <a:blip r:embed="rId3"/>
          <a:stretch/>
        </p:blipFill>
        <p:spPr>
          <a:xfrm>
            <a:off x="0" y="2992320"/>
            <a:ext cx="4449600" cy="3235320"/>
          </a:xfrm>
          <a:prstGeom prst="rect">
            <a:avLst/>
          </a:prstGeom>
          <a:ln w="0">
            <a:noFill/>
          </a:ln>
        </p:spPr>
      </p:pic>
      <p:pic>
        <p:nvPicPr>
          <p:cNvPr id="1879" name="图片 12" descr=""/>
          <p:cNvPicPr/>
          <p:nvPr/>
        </p:nvPicPr>
        <p:blipFill>
          <a:blip r:embed="rId4"/>
          <a:stretch/>
        </p:blipFill>
        <p:spPr>
          <a:xfrm>
            <a:off x="4626000" y="2992320"/>
            <a:ext cx="4338720" cy="323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0" name="图片 5" descr=""/>
          <p:cNvPicPr/>
          <p:nvPr/>
        </p:nvPicPr>
        <p:blipFill>
          <a:blip r:embed="rId1"/>
          <a:stretch/>
        </p:blipFill>
        <p:spPr>
          <a:xfrm>
            <a:off x="457200" y="2779560"/>
            <a:ext cx="2835360" cy="2297160"/>
          </a:xfrm>
          <a:prstGeom prst="rect">
            <a:avLst/>
          </a:prstGeom>
          <a:ln w="0">
            <a:noFill/>
          </a:ln>
        </p:spPr>
      </p:pic>
      <p:sp>
        <p:nvSpPr>
          <p:cNvPr id="1881" name="思想气泡: 云 6"/>
          <p:cNvSpPr/>
          <p:nvPr/>
        </p:nvSpPr>
        <p:spPr>
          <a:xfrm>
            <a:off x="4413240" y="1849320"/>
            <a:ext cx="4141800" cy="2478240"/>
          </a:xfrm>
          <a:prstGeom prst="cloudCallout">
            <a:avLst>
              <a:gd name="adj1" fmla="val -77333"/>
              <a:gd name="adj2" fmla="val 29638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f3f3f"/>
                </a:solidFill>
                <a:latin typeface="黑体"/>
              </a:rPr>
              <a:t>来到新班级，可以怎样介绍自己？谁来试一试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思想气泡: 云 6"/>
          <p:cNvSpPr/>
          <p:nvPr/>
        </p:nvSpPr>
        <p:spPr>
          <a:xfrm rot="21420000">
            <a:off x="4465440" y="1464840"/>
            <a:ext cx="3606480" cy="2719440"/>
          </a:xfrm>
          <a:prstGeom prst="cloudCallout">
            <a:avLst>
              <a:gd name="adj1" fmla="val -69361"/>
              <a:gd name="adj2" fmla="val 37490"/>
            </a:avLst>
          </a:prstGeom>
          <a:noFill/>
          <a:ln w="12600">
            <a:solidFill>
              <a:srgbClr val="6172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你能夸一夸身边的同学们吗？</a:t>
            </a:r>
            <a:endParaRPr b="0" lang="en-US" sz="2800" spc="-1" strike="noStrike">
              <a:solidFill>
                <a:srgbClr val="3f3f3f"/>
              </a:solidFill>
              <a:latin typeface="Arial"/>
            </a:endParaRPr>
          </a:p>
        </p:txBody>
      </p:sp>
      <p:sp>
        <p:nvSpPr>
          <p:cNvPr id="1883" name="文本框 1"/>
          <p:cNvSpPr/>
          <p:nvPr/>
        </p:nvSpPr>
        <p:spPr>
          <a:xfrm>
            <a:off x="165240" y="482760"/>
            <a:ext cx="54356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f3f3f"/>
              </a:solidFill>
              <a:latin typeface="Arial"/>
            </a:endParaRPr>
          </a:p>
        </p:txBody>
      </p:sp>
      <p:pic>
        <p:nvPicPr>
          <p:cNvPr id="1884" name="图片 5" descr=""/>
          <p:cNvPicPr/>
          <p:nvPr/>
        </p:nvPicPr>
        <p:blipFill>
          <a:blip r:embed="rId1"/>
          <a:stretch/>
        </p:blipFill>
        <p:spPr>
          <a:xfrm>
            <a:off x="757080" y="2909880"/>
            <a:ext cx="2833920" cy="2295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35:00Z</dcterms:created>
  <dc:creator>盛zhe</dc:creator>
  <dc:description/>
  <dc:language>en-US</dc:language>
  <cp:lastModifiedBy>_</cp:lastModifiedBy>
  <dcterms:modified xsi:type="dcterms:W3CDTF">2017-08-21T03:40:16Z</dcterms:modified>
  <cp:revision>15</cp:revision>
  <dc:subject/>
  <dc:title>板块一、猜谜游戏：猜猜我是谁？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